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430DF-1E25-4292-8016-24641F6D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2CFA-5982-4B34-A9B4-B99FA9E0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00CE0-772B-4857-AC52-38C2A3D3C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87FB2-53CA-4C7C-BA4D-D69402C4F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D7016-8520-433D-905D-358DF3C92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895C1-93F5-4BF8-A161-9EFFA0452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3E94-DCD9-4B6C-8217-0938CAF71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CA401-DA07-442B-85A9-FB167B920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E4966-6A9F-4E2A-B268-6FBE92996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4565D-B8C7-4AA7-A654-C06695597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DCE87-02E3-4649-BBB1-65EF366C7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E887-29BF-4B63-9A6E-AC2231F2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0B8E1-1814-41A3-82DD-6FC1A7166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01C8-0CE1-4801-98FF-9960A1CC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2FDB1-DE36-4EBD-B575-6F2BC4376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AB4FE-A9D0-42C1-A936-CB68A06F6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B3A73-04F3-46E1-AF37-CC7075F81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C941-801E-4C90-BE7A-853DC1475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733F-4C95-4C06-B934-F4820BF1E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C62D-0D12-4BA7-B800-9AB203333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E0FE-56DF-475C-9113-A39A3D0B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FCDC-A6D0-4C8F-9B20-A51C68EE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2"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ABFE-57FC-4072-8CA6-B5CF9382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6"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5672-B71E-4B20-A0CF-6907BE954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513F-C393-4B61-9EA8-D2C17E0754C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47AD-91F8-427B-8249-F53AFDA9010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stellar"/>
              </a:rPr>
              <a:t>Of Mice And Men Project</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Script MT Bold"/>
              </a:rPr>
              <a:t>              </a:t>
            </a:r>
            <a:r>
              <a:rPr b="0" lang="zh-CN" sz="3200" spc="-1" strike="noStrike">
                <a:solidFill>
                  <a:srgbClr val="000000"/>
                </a:solidFill>
                <a:latin typeface="Script MT Bold"/>
              </a:rPr>
              <a:t>By: Elice Mao (biographer)</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438280" y="151920"/>
            <a:ext cx="6400800" cy="67057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962 Nobel Prize</a:t>
            </a:r>
            <a:endParaRPr b="0" lang="en-US" sz="2400" spc="-1" strike="noStrike">
              <a:solidFill>
                <a:srgbClr val="000000"/>
              </a:solidFill>
              <a:latin typeface="Arial"/>
            </a:endParaRPr>
          </a:p>
          <a:p>
            <a:pPr marL="318960" indent="-31896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cceptance Speech Literature is as old as speech. It grew out of human need for it and it has not changed except to become more needed. The skalds, the bards, the writers are not separate and exclusive. From the beginning, their functions, their duties, their responsibilities have been decreed by our species...the writer is delegated to declare and to celebrate man's proven capacity for greatness of heart and spirit - for gallantry in defeat, for courage, compassion and love. In the endless war against weakness and despair, these are the bright rally flags of hope and of emulation. I hold that a writer who does not passionately believe in the perfectibility of man has no dedication nor any membership in literatur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438280" y="228600"/>
            <a:ext cx="6400800" cy="6324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Through his speech, we can clearly see how much Steinbeck loved literature and written. He believed that “a writer who does not passionately believe in the perfectibility of man has no dedication nor any membership in literature”.</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438280" y="228600"/>
            <a:ext cx="6400800" cy="632448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cript MT Bold"/>
              </a:rPr>
              <a:t>Steinbeck wrote the book </a:t>
            </a:r>
            <a:r>
              <a:rPr b="1" i="1" lang="en-US" sz="4800" spc="-1" strike="noStrike">
                <a:solidFill>
                  <a:srgbClr val="000000"/>
                </a:solidFill>
                <a:latin typeface="Script MT Bold"/>
              </a:rPr>
              <a:t>“Of Mice And Men”</a:t>
            </a:r>
            <a:r>
              <a:rPr b="1" lang="en-US" sz="4800" spc="-1" strike="noStrike">
                <a:solidFill>
                  <a:srgbClr val="000000"/>
                </a:solidFill>
                <a:latin typeface="Script MT Bold"/>
              </a:rPr>
              <a:t> also because of many reasons. Here are some of them.</a:t>
            </a:r>
            <a:endParaRPr b="0" lang="en-US" sz="4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38280" y="609480"/>
            <a:ext cx="6400800" cy="5486400"/>
          </a:xfrm>
          <a:prstGeom prst="rect">
            <a:avLst/>
          </a:prstGeom>
          <a:noFill/>
          <a:ln w="0">
            <a:noFill/>
          </a:ln>
        </p:spPr>
        <p:txBody>
          <a:bodyPr lIns="90000" rIns="90000" tIns="46800" bIns="46800" anchor="t">
            <a:normAutofit fontScale="96000"/>
          </a:bodyPr>
          <a:p>
            <a:pPr marL="585000" indent="-585000">
              <a:lnSpc>
                <a:spcPct val="100000"/>
              </a:lnSpc>
              <a:spcBef>
                <a:spcPts val="901"/>
              </a:spcBef>
              <a:buClr>
                <a:srgbClr val="e4005c"/>
              </a:buClr>
              <a:buSzPct val="70000"/>
              <a:buFont typeface="隶书"/>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He had worked in the ranch and he knew what the workers of ranches’ life in the USA was like.</a:t>
            </a:r>
            <a:endParaRPr b="0" lang="en-US" sz="3600" spc="-1" strike="noStrike">
              <a:solidFill>
                <a:srgbClr val="000000"/>
              </a:solidFill>
              <a:latin typeface="Arial"/>
            </a:endParaRPr>
          </a:p>
          <a:p>
            <a:pPr marL="585000" indent="-585000">
              <a:lnSpc>
                <a:spcPct val="100000"/>
              </a:lnSpc>
              <a:spcBef>
                <a:spcPts val="901"/>
              </a:spcBef>
              <a:buClr>
                <a:srgbClr val="e4005c"/>
              </a:buClr>
              <a:buSzPct val="70000"/>
              <a:buFont typeface="隶书"/>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His mother was a teacher and tought him much about written. This also made him to love literature.</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stellar"/>
              </a:rPr>
              <a:t>This is my Visual Project.</a:t>
            </a:r>
            <a:endParaRPr b="0" lang="en-US" sz="5400" spc="-1" strike="noStrike">
              <a:solidFill>
                <a:srgbClr val="000000"/>
              </a:solidFill>
              <a:latin typeface="Arial"/>
            </a:endParaRPr>
          </a:p>
        </p:txBody>
      </p:sp>
      <p:sp>
        <p:nvSpPr>
          <p:cNvPr id="10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Thank U for watching.</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362320" y="228600"/>
            <a:ext cx="6400800" cy="6400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I’m the biographer of our group. Now, let me give a summary of this book’s author, John Steinbeck’s life.</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438280" y="380880"/>
            <a:ext cx="6400800" cy="6096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John Ernst Steinbeck was born in Salinas, California, on February 27, 1902. His father, John Steinbeck, Sr., served as the County Treasurer while his mother, Olive (Hamilton) Steinbeck, a former school teacher, fostered Steinbeck's love of reading and the written word. During summers,  he worked on nearby ranches, nourishing his impression of the California countryside and its people.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438280" y="228240"/>
            <a:ext cx="6400800" cy="62485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Steinbeck married his first wife, Carol Henning in 1930. </a:t>
            </a:r>
            <a:r>
              <a:rPr b="1" i="1" lang="zh-CN" sz="2800" spc="-1" strike="noStrike">
                <a:solidFill>
                  <a:srgbClr val="000000"/>
                </a:solidFill>
                <a:latin typeface="隶书"/>
                <a:ea typeface="隶书"/>
              </a:rPr>
              <a:t>Tortilla Flat</a:t>
            </a:r>
            <a:r>
              <a:rPr b="1" lang="zh-CN" sz="2800" spc="-1" strike="noStrike">
                <a:solidFill>
                  <a:srgbClr val="000000"/>
                </a:solidFill>
                <a:latin typeface="隶书"/>
                <a:ea typeface="隶书"/>
              </a:rPr>
              <a:t> (1935) marked the turning point in Steinbeck's literary career. It received the California Commonwealth Club's Gold Medal for best novel by a California author. Steinbeck continued writing, relying upon extensive research and his personal observation of the human condition for his stories. </a:t>
            </a:r>
            <a:r>
              <a:rPr b="1" i="1" lang="zh-CN" sz="2800" spc="-1" strike="noStrike">
                <a:solidFill>
                  <a:srgbClr val="000000"/>
                </a:solidFill>
                <a:latin typeface="隶书"/>
                <a:ea typeface="隶书"/>
              </a:rPr>
              <a:t>The Grapes of Wrath</a:t>
            </a:r>
            <a:r>
              <a:rPr b="1" lang="zh-CN" sz="2800" spc="-1" strike="noStrike">
                <a:solidFill>
                  <a:srgbClr val="000000"/>
                </a:solidFill>
                <a:latin typeface="隶书"/>
                <a:ea typeface="隶书"/>
              </a:rPr>
              <a:t> (1939) won the Pulitzer Prize. </a:t>
            </a:r>
            <a:endParaRPr b="0" lang="en-US" sz="2800" spc="-1" strike="noStrike">
              <a:solidFill>
                <a:srgbClr val="000000"/>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438280" y="304560"/>
            <a:ext cx="64008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John Steinbeck was awarded the Nobel Prize for Literature in 1962 “...for his realistic as well as imaginative writings, distinguished by a sympathetic humor and a keen social perception.”</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438280" y="304560"/>
            <a:ext cx="64008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Throughout his life John Steinbeck remained a private person who shunned publicity. He died on December 20, 1968, in New York City. His ashes were placed in the Garden of Memories Cemetery in Salina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010040" cy="5105520"/>
          </a:xfrm>
          <a:prstGeom prst="rect">
            <a:avLst/>
          </a:prstGeom>
          <a:ln w="0">
            <a:noFill/>
          </a:ln>
        </p:spPr>
      </p:pic>
      <p:pic>
        <p:nvPicPr>
          <p:cNvPr id="96" name="" descr=""/>
          <p:cNvPicPr/>
          <p:nvPr/>
        </p:nvPicPr>
        <p:blipFill>
          <a:blip r:embed="rId2"/>
          <a:stretch/>
        </p:blipFill>
        <p:spPr>
          <a:xfrm>
            <a:off x="4952880" y="1752480"/>
            <a:ext cx="5105520" cy="5105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4334040" cy="6858000"/>
          </a:xfrm>
          <a:prstGeom prst="rect">
            <a:avLst/>
          </a:prstGeom>
          <a:ln w="0">
            <a:noFill/>
          </a:ln>
        </p:spPr>
      </p:pic>
      <p:pic>
        <p:nvPicPr>
          <p:cNvPr id="100" name="" descr=""/>
          <p:cNvPicPr/>
          <p:nvPr/>
        </p:nvPicPr>
        <p:blipFill>
          <a:blip r:embed="rId2"/>
          <a:stretch/>
        </p:blipFill>
        <p:spPr>
          <a:xfrm>
            <a:off x="4876920" y="0"/>
            <a:ext cx="42670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228240"/>
            <a:ext cx="6400800" cy="62485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0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Here’s John Steinbeck’s Nobel Prize Acceptance Speech.</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毛宏伟</cp:lastModifiedBy>
  <dcterms:modified xsi:type="dcterms:W3CDTF">2010-03-13T14:13:5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